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C8CE5-FDFE-4376-938A-DD729D3721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Социально – психологическ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1" lang="ru-RU" sz="1800" spc="-1" strike="noStrike">
                <a:solidFill>
                  <a:srgbClr val="c0504d"/>
                </a:solidFill>
                <a:latin typeface="Calibri"/>
              </a:rPr>
              <a:t>тренинг с подросткам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Методическая разработка  в помощь</a:t>
            </a:r>
            <a:r>
              <a:rPr b="1" lang="en-US" sz="2000" spc="-1" strike="noStrike">
                <a:solidFill>
                  <a:srgbClr val="99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990000"/>
                </a:solidFill>
                <a:latin typeface="Calibri"/>
              </a:rPr>
              <a:t> организатору тренинга с подростк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оставитель –  Платонова М.В., педагог - -психоло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МОУ «Нововилговская средняя школа №3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                                                          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спублики Кар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0B738-2215-44A9-9A19-7D62DC60D3C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A0C84-A769-40B9-B710-ED9714E3216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846D-F842-4958-96CA-BC0E269B0B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авила работы в груп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бровольность участ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ктив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кренность и открыт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инцип «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здесь и тепер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конфиденци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75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беспечение психологической и физической безопасности участников группы</a:t>
            </a:r>
            <a:r>
              <a:rPr b="0" lang="ru-RU" sz="1800" spc="-1" strike="noStrike">
                <a:solidFill>
                  <a:srgbClr val="c0504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2BB52-7699-40F1-B9BD-24A5298580A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труктура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змин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здание непринуждённой, доброжелательной атмосф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овышение сплочённости груп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II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.    Основная ча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аскрытие темы за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шение задач поставленных перед участниками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ефлек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Осуществление обратной связи о состоянии участников трен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в конце дн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17D3-E5A4-4E2D-A66A-41147550AE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ценарии зан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азработанные авторским коллективом Нововилговской средн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общения (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к учебному курсу «Экология» (Рыжкова Л.И., Платонова М.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профессионального самоопределения (Платонова М.В., Соловьёва Р.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лидерских качеств (Платонова М.В.,Соловьёва М.М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Тренинг «Школа лидера» (Мальцева Т.П.,Платонова М.В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рекомендованные учёнными - психолог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работы с подростками 6,7,12,13, 14, 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ие тренинги детско-родительских отношений 2, 9,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EA59-7E73-4809-A17B-4E3D2A694BD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ерезников А. Обратная связь в групповой работе с подростками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999, №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аринская В.М. Психологический тренинг детско-родительских отношений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 семейная терапия.2000,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Исурина Г. Групповая динамика в тренинговых группах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 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актического психолога.1998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5.     Лидерс А.Г. Группы личностного роста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6, 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е игры с подростка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6, №1-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дерс А.Г. Психологический тренинг с подростками.М.,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кшанов С. Принципы 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1999,№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рковская И. Опыт проведения тренинга взаимодействия родителей с детьми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ческого психолога.1998, №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неева О.А.,Кабанов А.В. Программа «Работа с семьями подростков,имеющими трудности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даптации»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Семейная психология и семейная терапия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1997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Журнал практического психолога.199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рудченков А.С. Социально-психологический тренинг в школе. М.,2001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Психологическое сопровождение выбора профессии. Научно-методическое пособие.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под.ре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итиной Л.М. М.,200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Романенко О.К. Практическая гештальттерапия. М.,1995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ля подростков. М., 200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Е.Б. Игра и конфликт в подростковом возрасте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c0504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мальчиков </a:t>
            </a:r>
            <a:r>
              <a:rPr b="0" lang="en-US" sz="1200" spc="-1" strike="noStrike">
                <a:solidFill>
                  <a:srgbClr val="c0504d"/>
                </a:solidFill>
                <a:latin typeface="Calibri"/>
              </a:rPr>
              <a:t>//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Журнал практического психолога. 1996,№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ного самоопределения старшеклассников. М., 200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A323-D860-48E0-A66B-790824C78B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728D-2D03-4E37-9C23-E43B8A1E5D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B5805-E83B-4A07-BE08-B65F1CEB4C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Что подходит ему уже сейчас, а что нет». (Хасан Е.Б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1968-49FA-40F6-B833-BE2C25EF009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пецифика подросткового возра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ые потребности подростка (Ремшмидт Х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A6F58-29C8-43FE-880E-F4692E94CA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9EF2-A260-4558-8CD8-728F80F2B4E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«</a:t>
            </a: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ажнейшая задача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2C148-2835-4B52-9FFB-39313BE1FE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Даёт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 возможность воспринимать себя через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C1180-1123-4BCB-9608-EC4C778B82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00"/>
                </a:solidFill>
                <a:latin typeface="Calibri"/>
              </a:rPr>
              <a:t>Социально-психологический тренин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Ведущая гуманистическая идея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не принуждать человека, не давить на не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а помочь ему стать самим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0504d"/>
                </a:solidFill>
                <a:uFillTx/>
                <a:latin typeface="Calibri"/>
              </a:rPr>
              <a:t>Основная цель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 – развитие компетентности в обще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F08-59B7-4B63-B8C1-943481BDE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527D-1AD1-49DC-968A-4A755EF9B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BF55-FA8D-44C0-A503-FBDAEA36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28E6-952C-449C-8FC2-3DEC08AD6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D14-24E9-46B0-AA5C-616E20A39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9284-E169-4732-8030-F570CB7CC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18C5-70F6-44CD-9160-29FF64119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1FC34-1CE8-4DE7-9C7F-C8662943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71AF-E6B5-4CF4-A1F4-CDD8698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A9B-7084-4A14-A2EB-B76AE856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77F4-D473-4AA5-A7D3-C4213389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0581-3148-4526-96DE-D476BDE9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35E7-5FC7-499C-B85A-55612D80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0E386-8BEF-4E8C-A2E9-F5DF267167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50920" y="404640"/>
            <a:ext cx="8642160" cy="58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оциально – психологичес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тренинг с подростк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Методическая разработка  в помощь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 организатору тренинга с подрос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ставитель –  Платонова М.В., педагог - -психолог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МОУ «Нововилговская средняя школа №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еспублики Карел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303120" y="35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3060360" y="907920"/>
            <a:ext cx="244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новные ви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32280" y="1484280"/>
            <a:ext cx="720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звития личности в межличностн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урт 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324000" y="2205000"/>
            <a:ext cx="864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жизненных умений( бихевиорально ориентированны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он Уотс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.П.Пав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328680" y="3141720"/>
            <a:ext cx="832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ешения личностных проблем (психодраматический подхо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жекобу Леви Море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28320" y="4005360"/>
            <a:ext cx="8449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вободного самоопределения групп (гуманистический подх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Карл Роджер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Уильям Шут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95280" y="4941720"/>
            <a:ext cx="806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рационального самопознания и саморазвития (трансактный анализ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Эрик Бёр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234360" y="5942160"/>
            <a:ext cx="88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тренинг самоактуализации и саморегуляции (гештальтподход в групп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Фредерик Перл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2044440" y="47628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5"/>
          <p:cNvSpPr/>
          <p:nvPr/>
        </p:nvSpPr>
        <p:spPr>
          <a:xfrm>
            <a:off x="2989440" y="112536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ринцип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акшан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141120" y="1844640"/>
            <a:ext cx="138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озд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ср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109960" y="2997360"/>
            <a:ext cx="157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ве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участн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4732200" y="4581360"/>
            <a:ext cx="23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организ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6732720" y="2421000"/>
            <a:ext cx="18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160200" y="1771560"/>
            <a:ext cx="2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8"/>
          <p:cNvSpPr/>
          <p:nvPr/>
        </p:nvSpPr>
        <p:spPr>
          <a:xfrm>
            <a:off x="2176560" y="2563920"/>
            <a:ext cx="245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9"/>
          <p:cNvSpPr/>
          <p:nvPr/>
        </p:nvSpPr>
        <p:spPr>
          <a:xfrm>
            <a:off x="3173400" y="2513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20"/>
          <p:cNvSpPr/>
          <p:nvPr/>
        </p:nvSpPr>
        <p:spPr>
          <a:xfrm>
            <a:off x="2125440" y="27813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21"/>
          <p:cNvSpPr/>
          <p:nvPr/>
        </p:nvSpPr>
        <p:spPr>
          <a:xfrm>
            <a:off x="4567680" y="5084640"/>
            <a:ext cx="285516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физическая закрыт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мплектование груп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(гомогенность-гетерогенност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остранственно-времен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рганиз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2"/>
          <p:cNvSpPr/>
          <p:nvPr/>
        </p:nvSpPr>
        <p:spPr>
          <a:xfrm>
            <a:off x="6588000" y="2924280"/>
            <a:ext cx="219564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ответствие заяв-ленных целей тренинга его содерж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енанесение ущерб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180720" y="2492280"/>
            <a:ext cx="1620720" cy="100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истем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етермина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еалисти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збыточ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25"/>
          <p:cNvSpPr/>
          <p:nvPr/>
        </p:nvSpPr>
        <p:spPr>
          <a:xfrm>
            <a:off x="1617480" y="3716280"/>
            <a:ext cx="2748600" cy="15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следовательска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творческая позиц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убъект-субъектное общ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объективация пове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крен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7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28"/>
          <p:cNvSpPr/>
          <p:nvPr/>
        </p:nvSpPr>
        <p:spPr>
          <a:xfrm flipH="1">
            <a:off x="1402920" y="1484280"/>
            <a:ext cx="151308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29"/>
          <p:cNvSpPr/>
          <p:nvPr/>
        </p:nvSpPr>
        <p:spPr>
          <a:xfrm flipH="1">
            <a:off x="2916360" y="1557360"/>
            <a:ext cx="57600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30"/>
          <p:cNvSpPr/>
          <p:nvPr/>
        </p:nvSpPr>
        <p:spPr>
          <a:xfrm>
            <a:off x="4427640" y="1557360"/>
            <a:ext cx="1224000" cy="30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31"/>
          <p:cNvSpPr/>
          <p:nvPr/>
        </p:nvSpPr>
        <p:spPr>
          <a:xfrm>
            <a:off x="5219640" y="1557360"/>
            <a:ext cx="201636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395280" y="1484280"/>
            <a:ext cx="8209080" cy="50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обровольность учас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актив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скренность и открыт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ринцип «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«здесь и теперь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нфиденциа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обеспечение психологической и физической безопасности участников группы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1412640" y="26028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468360" y="907920"/>
            <a:ext cx="820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авила работы в груп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"/>
          <p:cNvSpPr/>
          <p:nvPr/>
        </p:nvSpPr>
        <p:spPr>
          <a:xfrm>
            <a:off x="231840" y="49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2921760" y="1001880"/>
            <a:ext cx="348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Структура заня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69840" y="1700280"/>
            <a:ext cx="907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187200">
              <a:buClr>
                <a:srgbClr val="333399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змин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оздание непринуждённой, доброжелательной атмосфе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18720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повышение сплочённости груп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160" y="3284640"/>
            <a:ext cx="924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60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I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    Основная ча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аскрытие темы зан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036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шение задач поставленных перед участниками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79280" y="4797360"/>
            <a:ext cx="914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277920">
              <a:buClr>
                <a:srgbClr val="333399"/>
              </a:buClr>
              <a:buFont typeface="Arial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Рефлекс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Осуществление обратной связи о состоянии участников трен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27792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в конце д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1125000" y="40464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5"/>
          <p:cNvSpPr/>
          <p:nvPr/>
        </p:nvSpPr>
        <p:spPr>
          <a:xfrm>
            <a:off x="3205440" y="907920"/>
            <a:ext cx="296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ценарии занят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179280" y="1628640"/>
            <a:ext cx="86137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азработанные авторским коллективом Нововилговской средней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общения (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к учебному курсу «Экология» (Рыжкова Л.И., Платонова М.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профессионального самоопределения (Платонова М.В., Соловьёва Р.Л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лидерских качеств (Платонова М.В.,Соловьёва М.М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Тренинг «Школа лидера» (Мальцева Т.П.,Платонова М.В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89000" y="5157720"/>
            <a:ext cx="895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рекомендованные учёнными - психолог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для работы с подростками 6,7,12,13, 14, 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сихологические тренинги детско-родительских отношений 2, 9,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125000" y="333360"/>
            <a:ext cx="68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5"/>
          <p:cNvSpPr/>
          <p:nvPr/>
        </p:nvSpPr>
        <p:spPr>
          <a:xfrm>
            <a:off x="-447480" y="65160"/>
            <a:ext cx="972756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тера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Березников А. Обратная связь в групповой работе с подростками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999, №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аринская В.М. Психологический тренинг детско-родительских отношений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 семейная терапия.2000, №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Исурина Г. Групповая динамика в тренинговых группах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 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ебедева Е. Психология изменений и изменчивый мир подростка в групповой рабо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актического психолога.1998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5.     Лидерс А.Г. Группы личностного роста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6, 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е игры с подростка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6, №1-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Лидерс А.Г. Психологический тренинг с подростками.М.,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кшанов С. Принципы 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1999,№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рковская И. Опыт проведения тренинга взаимодействия родителей с детьми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ческого психолога.1998, №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неева О.А.,Кабанов А.В. Программа «Работа с семьями подростков,имеющими трудности 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адаптации»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Семейная психология и семейная терапия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1997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вак А. Обратная связь о состоянии группы и участников социально-психологического тренинга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Журнал практического психолога.199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8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рудченков А.С. Социально-психологический тренинг в школе. М.,2001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Психологическое сопровождение выбора профессии. Научно-методическое пособие.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под.ред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итиной Л.М. М.,2003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Романенко О.К. Практическая гештальттерапия. М.,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Солдатова , Шайгерова Г.У., Шарова О.Д. Жить в мире с собой и другими. Тренинг толерантно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для подростков. М.,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Е.Б. Игра и конфликт в подростковом возрасте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Хасан Б.И. Психолого-педагогические условия протекания пубертатного периода у девочек и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мальчиков </a:t>
            </a:r>
            <a:r>
              <a:rPr b="0" lang="en-US" sz="1400" spc="-1" strike="noStrike">
                <a:solidFill>
                  <a:srgbClr val="333399"/>
                </a:solidFill>
                <a:latin typeface="Arial"/>
              </a:rPr>
              <a:t>//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Журнал практического психолога. 1996,№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18.     Чистякова С.Н., Лернер П.С., Родичев Н.Ф., Титов Е. В. Педагогическая поддержка профессиональ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          </a:t>
            </a:r>
            <a:r>
              <a:rPr b="0" lang="ru-RU" sz="1400" spc="-1" strike="noStrike">
                <a:solidFill>
                  <a:srgbClr val="333399"/>
                </a:solidFill>
                <a:latin typeface="Arial"/>
              </a:rPr>
              <a:t>ного самоопределения старшеклассников. М.,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897120" y="476280"/>
            <a:ext cx="745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Arial"/>
              </a:rPr>
              <a:t>Специфика подросткового пери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763560" y="1365120"/>
            <a:ext cx="77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Сферы развития, подвергающиеся изменения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757440" y="2205000"/>
            <a:ext cx="8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те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1765440" y="270828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мышл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48360" y="3213000"/>
            <a:ext cx="308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оциальная жиз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0"/>
          <p:cNvSpPr/>
          <p:nvPr/>
        </p:nvSpPr>
        <p:spPr>
          <a:xfrm>
            <a:off x="6230520" y="364500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амосозн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2770200" y="4148280"/>
            <a:ext cx="42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задачи (Кле М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809640" y="4672080"/>
            <a:ext cx="53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убертат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Когнитивное развит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Преобразования социа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ановление идентич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-92160" y="37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611280" y="1413000"/>
            <a:ext cx="8204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Задача само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i="1" lang="ru-RU" sz="2800" spc="-1" strike="noStrike">
                <a:solidFill>
                  <a:srgbClr val="333399"/>
                </a:solidFill>
                <a:latin typeface="Arial"/>
              </a:rPr>
              <a:t>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Полов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озрастна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Социаль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половая                         уже не ребёнок,                необходимость з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идентификация             но ещё не взрослый.       нять определё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то же?                             место в обществе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группе сверст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837080" y="47628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9"/>
          <p:cNvGrpSpPr/>
          <p:nvPr/>
        </p:nvGrpSpPr>
        <p:grpSpPr>
          <a:xfrm>
            <a:off x="1763280" y="2708280"/>
            <a:ext cx="5545440" cy="504720"/>
            <a:chOff x="1763280" y="2708280"/>
            <a:chExt cx="5545440" cy="504720"/>
          </a:xfrm>
        </p:grpSpPr>
        <p:sp>
          <p:nvSpPr>
            <p:cNvPr id="63" name="Line 6"/>
            <p:cNvSpPr/>
            <p:nvPr/>
          </p:nvSpPr>
          <p:spPr>
            <a:xfrm flipH="1">
              <a:off x="1763280" y="2708280"/>
              <a:ext cx="2016360" cy="43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7"/>
            <p:cNvSpPr/>
            <p:nvPr/>
          </p:nvSpPr>
          <p:spPr>
            <a:xfrm>
              <a:off x="4572000" y="2781360"/>
              <a:ext cx="0" cy="4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8"/>
            <p:cNvSpPr/>
            <p:nvPr/>
          </p:nvSpPr>
          <p:spPr>
            <a:xfrm>
              <a:off x="5219640" y="2781360"/>
              <a:ext cx="2089080" cy="36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395280" y="1484280"/>
            <a:ext cx="511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Вместе с тем, подростку важен взрослый, ему важно его признание  и важно его понимание, по каким нормам живут люди (взрослые) в этом ми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Что подходит ему уже сейчас, а что нет». (Хасан Е.Б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979640" y="3933720"/>
            <a:ext cx="6683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Старшие подростки обнаруживают не меньшую, а часто и большую потребность в доверительных, глубоких, диалогических, демократических,  очень похожих на интимные в широком смысле этого слова контактах со взрослыми, причём как своего так и противоположного пола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4"/>
          <p:cNvSpPr/>
          <p:nvPr/>
        </p:nvSpPr>
        <p:spPr>
          <a:xfrm>
            <a:off x="538920" y="112536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ые потребности подростка (Ремшмидт Х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395280" y="1989000"/>
            <a:ext cx="856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Физиологическая (запускающая физиологическую и сексуаль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активность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399240" y="2637000"/>
            <a:ext cx="68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безопасности (принадлежность к групп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406440" y="2997360"/>
            <a:ext cx="64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зависимости и эмансипации от семь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398880" y="3429000"/>
            <a:ext cx="388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привязан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01040" y="3933720"/>
            <a:ext cx="67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успехе, в проверке своих возможносте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03920" y="4437000"/>
            <a:ext cx="72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отребность в самореализации и развитии собственного 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92200" y="51055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447840" y="4816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324000" y="522936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333399"/>
                </a:solidFill>
                <a:latin typeface="Arial"/>
              </a:rPr>
              <a:t>«Группы личностного рост с подростками дают последним возможность опробовать, а частично и реализовать, способы удовлетворения всех этих потребностей». (Лидерс А.Г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5"/>
          <p:cNvSpPr/>
          <p:nvPr/>
        </p:nvSpPr>
        <p:spPr>
          <a:xfrm>
            <a:off x="1405440" y="455760"/>
            <a:ext cx="572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пецифика подросткового возра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5"/>
          <p:cNvSpPr/>
          <p:nvPr/>
        </p:nvSpPr>
        <p:spPr>
          <a:xfrm>
            <a:off x="324000" y="549360"/>
            <a:ext cx="83534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«Педагогическое сопровождение социально – профессионального самоопределения школьников – это особая сфера деятельности педагога – фасилитатора, ориентированная на взаимодействие со школьником по оказанию ему поддержки в становлении личностного роста, социальной адаптации, принятии решения об избираемой профессиональной деятельности и самоутверждения в ней». (Чистякова С.Н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Arial"/>
              </a:rPr>
              <a:t>Принципиально новым оптимальным методом для реализации такого подхода может служить 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4"/>
          <p:cNvSpPr/>
          <p:nvPr/>
        </p:nvSpPr>
        <p:spPr>
          <a:xfrm>
            <a:off x="37620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250920" y="476280"/>
            <a:ext cx="864216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- это форма специально организованного общения, психологическое воздействие которого основано на активных методах групповой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«</a:t>
            </a: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ажнейшая задача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помочь участнику выразить себя своими индивидуальными средствами, именно СВОИМИ, а для этого сначала нужно научиться  воспринимать и понимать себя». (Прудченков А.С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1043280" y="1341360"/>
            <a:ext cx="736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аёт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возможность воспринимать себя через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464400" y="2395440"/>
            <a:ext cx="507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соотнесения себя с другим человек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64040" y="3116160"/>
            <a:ext cx="454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ебя другими людь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532080" y="3908520"/>
            <a:ext cx="551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результаты собствен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601920" y="4556160"/>
            <a:ext cx="646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наблюдение собственных внутренних состоя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606240" y="5275440"/>
            <a:ext cx="579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333399"/>
                </a:solidFill>
                <a:latin typeface="Arial"/>
              </a:rPr>
              <a:t>восприятие собственного внешнего обл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549360"/>
            <a:ext cx="74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108000" y="1341360"/>
            <a:ext cx="859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Ведущая гуманистическая идея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не принуждать человека, не давить на нег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а помочь ему стать самим со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333399"/>
                </a:solidFill>
                <a:uFillTx/>
                <a:latin typeface="Arial"/>
              </a:rPr>
              <a:t>Основная цель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 – развитие компетентности в общ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3280680" y="3716280"/>
            <a:ext cx="16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Другие це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592560" y="4168800"/>
            <a:ext cx="213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личностный р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1259640" y="4653000"/>
            <a:ext cx="53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бучение новым психологическим технологи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2703240" y="5229360"/>
            <a:ext cx="49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отработка новых поведенческих паттер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044440" y="450720"/>
            <a:ext cx="495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Социально-психологический тренин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13:24:09Z</dcterms:created>
  <dc:creator>User</dc:creator>
  <dc:description/>
  <dc:language>en-US</dc:language>
  <cp:lastModifiedBy>LEGION</cp:lastModifiedBy>
  <dcterms:modified xsi:type="dcterms:W3CDTF">2014-11-12T09:34:36Z</dcterms:modified>
  <cp:revision>39</cp:revision>
  <dc:subject/>
  <dc:title>Слайд 1</dc:title>
</cp:coreProperties>
</file>